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DF5-A3CF-4337-AA75-521253AD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2B1-DF1B-44C6-B328-2D69737B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E2A-F83C-4A61-947D-86A41581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301-F84E-4F9F-A56F-E240D622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484-5967-4CEF-BD14-965148DC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4E5-6B47-45E2-8447-0B5BCE4A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1A9-0D40-4AE2-8140-84E034FE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8BC-E7A0-457B-8762-230FEE72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42F-0F35-4871-8C59-1AE8313F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0D1-7C93-46A6-A5FC-816B92C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60E-0F96-43F1-ABCE-20445E8C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DFB-A4B9-4965-B6C6-9653327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582C-A3B7-402D-8758-844F94E4E5B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44640"/>
            <a:ext cx="62658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aeaea"/>
                </a:solidFill>
                <a:latin typeface="Comic Sans MS"/>
              </a:rPr>
              <a:t>« En général il n’est guère aimé…je n’ai aucune raison de ne pas lui parler. 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(p31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1844640"/>
            <a:ext cx="6265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aeaea"/>
                </a:solidFill>
                <a:latin typeface="Comic Sans MS"/>
              </a:rPr>
              <a:t>« Je comprenais qu’il veuille la punir 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(p35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1844640"/>
            <a:ext cx="6265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aeaea"/>
                </a:solidFill>
                <a:latin typeface="Comic Sans MS"/>
              </a:rPr>
              <a:t>« Cela m’était égal d’être son copain 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(p36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1844640"/>
            <a:ext cx="6265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aeaea"/>
                </a:solidFill>
                <a:latin typeface="Comic Sans MS"/>
              </a:rPr>
              <a:t>« Je me suis appliqué à contenter Raymond parce que je n’avais pas de raison de ne pas le contenter. 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(p36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1844640"/>
            <a:ext cx="62658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omic Sans MS"/>
              </a:rPr>
              <a:t>« Elle m’a demandé si je l’aimais. Je lui ai répondu que cela ne voulait rien dire, mais qu’il me semblait que non.  Elle a eu l’air triste 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Comic Sans MS"/>
              </a:rPr>
              <a:t>(p39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981000"/>
            <a:ext cx="62658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omic Sans MS"/>
              </a:rPr>
              <a:t>« Il me disait combien il était content d’avoir réussi à punir sa maîtresse.  Je le trouvais très gentil avec moi et j’ai pensé que c’était un bon moment. 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Comic Sans MS"/>
              </a:rPr>
              <a:t>(p42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Des citations à analyser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1268280"/>
            <a:ext cx="6265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aeaea"/>
                </a:solidFill>
                <a:latin typeface="Comic Sans MS"/>
              </a:rPr>
              <a:t>« …j’ai compris qu’il pleurait. Je ne sais pas pourquoi j’ai pensé à maman. 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Comic Sans MS"/>
              </a:rPr>
              <a:t>(p42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5334120"/>
            <a:ext cx="1441440" cy="1290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655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Steve Badger</cp:lastModifiedBy>
  <dcterms:modified xsi:type="dcterms:W3CDTF">2006-08-28T15:21:12Z</dcterms:modified>
  <cp:revision>7</cp:revision>
  <dc:subject/>
  <dc:title>Les thèmes du récit</dc:title>
</cp:coreProperties>
</file>